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37A-D11C-450C-A197-0E4A7E9B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DCD5-8E70-4767-AD59-0985E827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8C3-7D59-412D-AD7D-13AFAC04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2FC-ECD8-4FAF-9B13-80CD31EF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26E7-EA01-41AD-9506-17616A62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2B7-00F2-4EB1-B200-94E4B37C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4A00-219F-4B49-8D7C-1A423BC8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95E8-7279-4A79-ACD3-9C5BC407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311-50E4-438F-B18A-7127645F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DF6-B914-451B-8751-258C2C5C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D96-521D-4DDA-96E2-E533821E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4CF4-FC7B-412B-97FD-E2FABA88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5EF6-3E05-4F09-A05E-A1D0D7C75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bc.co.uk/iplayer/episode/b00rl4dl/Panorama_Are_the_Net_Police_Coming_for_You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365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bc.co.uk/iplayer/episode/b00rl4dl/Panorama_Are_the_Net_Police_Coming_for_You/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7640" y="333360"/>
            <a:ext cx="86756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though now a little old I strongly recommend you watch this clip again – do you agree with Billy Bragg when he says that the music industry is actually in good health and that it is just the record companies that are suffer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9:14:07Z</dcterms:created>
  <dc:creator>maninder singh</dc:creator>
  <dc:description/>
  <dc:language>en-US</dc:language>
  <cp:lastModifiedBy>maninder singh</cp:lastModifiedBy>
  <dcterms:modified xsi:type="dcterms:W3CDTF">2010-12-13T17:23:04Z</dcterms:modified>
  <cp:revision>2</cp:revision>
  <dc:subject/>
  <dc:title>http://www.bbc.co.uk/iplayer/episode/b00rl4dl/Panorama_Are_the_Net_Police_Coming_for_You/ </dc:title>
</cp:coreProperties>
</file>